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5F9-F651-411E-AB51-7AF0AD0D02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8E0-40A1-410D-B823-05CA8F741B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A19-81C3-4993-B3DB-389941C0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B1A-CADE-4A44-AED0-8DC5E76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E98-C31C-42C8-863D-786750F0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929-2C81-45B2-80D2-4972CF0C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E63-3662-4CFE-AA95-95910E0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ADC-7921-42E4-9853-7F2F0CC1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6AA-F083-449F-8435-AD14490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303-7416-4C07-BE08-C915E88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E47-55DA-45A2-8D9D-307DCD4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7E1-2C1E-46C8-9396-3E3F3F1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DA6-873E-4739-863C-A0D887D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DF2-6601-49DA-8489-C8AFCA8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F08E-B9A0-485A-9FF4-0051AC958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592200" y="2759040"/>
          <a:ext cx="641016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759040"/>
                    <a:ext cx="6410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6"/>
          <p:cNvGraphicFramePr/>
          <p:nvPr/>
        </p:nvGraphicFramePr>
        <p:xfrm>
          <a:off x="673200" y="4214880"/>
          <a:ext cx="587844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4214880"/>
                    <a:ext cx="5878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5"/>
          <p:cNvSpPr/>
          <p:nvPr/>
        </p:nvSpPr>
        <p:spPr>
          <a:xfrm>
            <a:off x="5400" y="371520"/>
            <a:ext cx="913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Циклическим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,k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)-код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код, множество комбинац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го представляется совокупностью полиномов степ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нее, делящихся на некоторый порождающий полин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являющийся сомножителям полино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16"/>
          <p:cNvGraphicFramePr/>
          <p:nvPr/>
        </p:nvGraphicFramePr>
        <p:xfrm>
          <a:off x="7078680" y="1422360"/>
          <a:ext cx="62388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8680" y="142236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17"/>
          <p:cNvSpPr/>
          <p:nvPr/>
        </p:nvSpPr>
        <p:spPr>
          <a:xfrm>
            <a:off x="711360" y="2200320"/>
            <a:ext cx="73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циклический код (7,3) можно представи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8"/>
          <p:cNvGraphicFramePr/>
          <p:nvPr/>
        </p:nvGraphicFramePr>
        <p:xfrm>
          <a:off x="588960" y="3517920"/>
          <a:ext cx="680868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960" y="3517920"/>
                    <a:ext cx="680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ЫЕ  ПОРОЖДАЮЩИЕ  ПОЛИНОМЫ  ДЛЯ  ЦИКЛИЧЕСКИХ  КОДОВ  ДЛИНЫ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1123200" y="2174760"/>
            <a:ext cx="6781320" cy="3067200"/>
            <a:chOff x="1123200" y="2174760"/>
            <a:chExt cx="6781320" cy="3067200"/>
          </a:xfrm>
        </p:grpSpPr>
        <p:sp>
          <p:nvSpPr>
            <p:cNvPr id="273" name="Text Box 4"/>
            <p:cNvSpPr/>
            <p:nvPr/>
          </p:nvSpPr>
          <p:spPr>
            <a:xfrm>
              <a:off x="1123200" y="2174760"/>
              <a:ext cx="67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ождающие  многочлены  Циклический  к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1435680" y="2651040"/>
              <a:ext cx="32353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6"/>
            <p:cNvSpPr/>
            <p:nvPr/>
          </p:nvSpPr>
          <p:spPr>
            <a:xfrm>
              <a:off x="6208200" y="2631960"/>
              <a:ext cx="766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1162080" y="2209680"/>
              <a:ext cx="6705720" cy="281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5181840" y="22096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1162080" y="2666880"/>
              <a:ext cx="670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566280" y="49320"/>
            <a:ext cx="7659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 ЦИКЛИЧЕСКОГО 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  примере  (7,4)- к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4360" y="955800"/>
            <a:ext cx="76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1)Информационная  часть  кодовой  комбинации  представляется  в  виде  полинома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Q(x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614680" y="177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384800" y="175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Q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3486240" y="1886040"/>
            <a:ext cx="914400" cy="247680"/>
          </a:xfrm>
          <a:prstGeom prst="rightArrow">
            <a:avLst>
              <a:gd name="adj1" fmla="val 50000"/>
              <a:gd name="adj2" fmla="val 9229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288080" y="2255760"/>
            <a:ext cx="625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2)Полином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Q(x)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  умножается  на  одночлен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200" spc="-1" strike="noStrike" baseline="30000">
                <a:solidFill>
                  <a:srgbClr val="3333cc"/>
                </a:solidFill>
                <a:latin typeface="Times New Roman"/>
              </a:rPr>
              <a:t>n-k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939120" y="26510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n-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346040" y="3089160"/>
            <a:ext cx="36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Q(x)•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)•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546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3)Результат умножения делится на порождающий многочлен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g(x)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, полученный остаток помещается на место проверочных разря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5124600" y="3219480"/>
            <a:ext cx="914400" cy="247680"/>
          </a:xfrm>
          <a:prstGeom prst="rightArrow">
            <a:avLst>
              <a:gd name="adj1" fmla="val 50000"/>
              <a:gd name="adj2" fmla="val 9229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062760" y="310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973080" y="476568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426480" y="42130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2266920" y="4784760"/>
            <a:ext cx="1257480" cy="682560"/>
            <a:chOff x="2266920" y="4784760"/>
            <a:chExt cx="1257480" cy="682560"/>
          </a:xfrm>
        </p:grpSpPr>
        <p:sp>
          <p:nvSpPr>
            <p:cNvPr id="293" name="Text Box 16"/>
            <p:cNvSpPr/>
            <p:nvPr/>
          </p:nvSpPr>
          <p:spPr>
            <a:xfrm>
              <a:off x="2396880" y="478476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2266920" y="48006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>
              <a:off x="2266920" y="5162400"/>
              <a:ext cx="125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19"/>
          <p:cNvSpPr/>
          <p:nvPr/>
        </p:nvSpPr>
        <p:spPr>
          <a:xfrm>
            <a:off x="2322720" y="5165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6720" y="49500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1"/>
          <p:cNvGrpSpPr/>
          <p:nvPr/>
        </p:nvGrpSpPr>
        <p:grpSpPr>
          <a:xfrm>
            <a:off x="976320" y="5089680"/>
            <a:ext cx="1251000" cy="459720"/>
            <a:chOff x="976320" y="5089680"/>
            <a:chExt cx="1251000" cy="459720"/>
          </a:xfrm>
        </p:grpSpPr>
        <p:sp>
          <p:nvSpPr>
            <p:cNvPr id="299" name="Text Box 22"/>
            <p:cNvSpPr/>
            <p:nvPr/>
          </p:nvSpPr>
          <p:spPr>
            <a:xfrm>
              <a:off x="976320" y="508968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990720" y="546732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Text Box 24"/>
          <p:cNvSpPr/>
          <p:nvPr/>
        </p:nvSpPr>
        <p:spPr>
          <a:xfrm>
            <a:off x="1846440" y="5413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585880" y="516564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26"/>
          <p:cNvGrpSpPr/>
          <p:nvPr/>
        </p:nvGrpSpPr>
        <p:grpSpPr>
          <a:xfrm>
            <a:off x="1844280" y="5680080"/>
            <a:ext cx="1073880" cy="459720"/>
            <a:chOff x="1844280" y="5680080"/>
            <a:chExt cx="1073880" cy="459720"/>
          </a:xfrm>
        </p:grpSpPr>
        <p:sp>
          <p:nvSpPr>
            <p:cNvPr id="304" name="Text Box 27"/>
            <p:cNvSpPr/>
            <p:nvPr/>
          </p:nvSpPr>
          <p:spPr>
            <a:xfrm>
              <a:off x="1844280" y="568008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>
              <a:off x="1905120" y="6058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 Box 29"/>
          <p:cNvSpPr/>
          <p:nvPr/>
        </p:nvSpPr>
        <p:spPr>
          <a:xfrm>
            <a:off x="14842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2261880" y="6004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1"/>
          <p:cNvGrpSpPr/>
          <p:nvPr/>
        </p:nvGrpSpPr>
        <p:grpSpPr>
          <a:xfrm>
            <a:off x="288360" y="6041880"/>
            <a:ext cx="1978560" cy="459720"/>
            <a:chOff x="288360" y="6041880"/>
            <a:chExt cx="1978560" cy="459720"/>
          </a:xfrm>
        </p:grpSpPr>
        <p:sp>
          <p:nvSpPr>
            <p:cNvPr id="309" name="Text Box 32"/>
            <p:cNvSpPr/>
            <p:nvPr/>
          </p:nvSpPr>
          <p:spPr>
            <a:xfrm>
              <a:off x="288360" y="60418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>
              <a:off x="1619280" y="6267600"/>
              <a:ext cx="64764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34"/>
          <p:cNvGrpSpPr/>
          <p:nvPr/>
        </p:nvGrpSpPr>
        <p:grpSpPr>
          <a:xfrm>
            <a:off x="4233600" y="4803840"/>
            <a:ext cx="1247760" cy="1145520"/>
            <a:chOff x="4233600" y="4803840"/>
            <a:chExt cx="1247760" cy="1145520"/>
          </a:xfrm>
        </p:grpSpPr>
        <p:sp>
          <p:nvSpPr>
            <p:cNvPr id="312" name="Text Box 35"/>
            <p:cNvSpPr/>
            <p:nvPr/>
          </p:nvSpPr>
          <p:spPr>
            <a:xfrm>
              <a:off x="4399200" y="480384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36"/>
            <p:cNvSpPr/>
            <p:nvPr/>
          </p:nvSpPr>
          <p:spPr>
            <a:xfrm>
              <a:off x="4233600" y="5489640"/>
              <a:ext cx="1247760" cy="459720"/>
            </a:xfrm>
            <a:prstGeom prst="wedgeRectCallout">
              <a:avLst>
                <a:gd name="adj1" fmla="val -1430"/>
                <a:gd name="adj2" fmla="val -110324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37"/>
            <p:cNvSpPr/>
            <p:nvPr/>
          </p:nvSpPr>
          <p:spPr>
            <a:xfrm>
              <a:off x="4400640" y="5200560"/>
              <a:ext cx="876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8"/>
          <p:cNvGrpSpPr/>
          <p:nvPr/>
        </p:nvGrpSpPr>
        <p:grpSpPr>
          <a:xfrm>
            <a:off x="6117840" y="4765680"/>
            <a:ext cx="2555280" cy="1145520"/>
            <a:chOff x="6117840" y="4765680"/>
            <a:chExt cx="2555280" cy="1145520"/>
          </a:xfrm>
        </p:grpSpPr>
        <p:sp>
          <p:nvSpPr>
            <p:cNvPr id="316" name="Text Box 39"/>
            <p:cNvSpPr/>
            <p:nvPr/>
          </p:nvSpPr>
          <p:spPr>
            <a:xfrm>
              <a:off x="6117840" y="4765680"/>
              <a:ext cx="25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A(x)=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x 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0"/>
            <p:cNvSpPr/>
            <p:nvPr/>
          </p:nvSpPr>
          <p:spPr>
            <a:xfrm>
              <a:off x="6248520" y="5143320"/>
              <a:ext cx="2286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AutoShape 41"/>
            <p:cNvSpPr/>
            <p:nvPr/>
          </p:nvSpPr>
          <p:spPr>
            <a:xfrm>
              <a:off x="6805800" y="5451480"/>
              <a:ext cx="1247760" cy="459720"/>
            </a:xfrm>
            <a:prstGeom prst="wedgeRectCallout">
              <a:avLst>
                <a:gd name="adj1" fmla="val 7972"/>
                <a:gd name="adj2" fmla="val -113768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1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42"/>
          <p:cNvGrpSpPr/>
          <p:nvPr/>
        </p:nvGrpSpPr>
        <p:grpSpPr>
          <a:xfrm>
            <a:off x="2876400" y="5981400"/>
            <a:ext cx="2286000" cy="501120"/>
            <a:chOff x="2876400" y="5981400"/>
            <a:chExt cx="2286000" cy="501120"/>
          </a:xfrm>
        </p:grpSpPr>
        <p:grpSp>
          <p:nvGrpSpPr>
            <p:cNvPr id="320" name="Group 43"/>
            <p:cNvGrpSpPr/>
            <p:nvPr/>
          </p:nvGrpSpPr>
          <p:grpSpPr>
            <a:xfrm>
              <a:off x="2876400" y="6022800"/>
              <a:ext cx="1271520" cy="459720"/>
              <a:chOff x="2876400" y="6022800"/>
              <a:chExt cx="1271520" cy="459720"/>
            </a:xfrm>
          </p:grpSpPr>
          <p:sp>
            <p:nvSpPr>
              <p:cNvPr id="321" name="Line 44"/>
              <p:cNvSpPr/>
              <p:nvPr/>
            </p:nvSpPr>
            <p:spPr>
              <a:xfrm>
                <a:off x="2876400" y="6248520"/>
                <a:ext cx="6480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45"/>
              <p:cNvSpPr/>
              <p:nvPr/>
            </p:nvSpPr>
            <p:spPr>
              <a:xfrm>
                <a:off x="3510000" y="60228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Line 46"/>
            <p:cNvSpPr/>
            <p:nvPr/>
          </p:nvSpPr>
          <p:spPr>
            <a:xfrm flipV="1">
              <a:off x="4076640" y="5981400"/>
              <a:ext cx="1085760" cy="2667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Rectangle 47"/>
          <p:cNvSpPr/>
          <p:nvPr/>
        </p:nvSpPr>
        <p:spPr>
          <a:xfrm>
            <a:off x="647640" y="4667400"/>
            <a:ext cx="2895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8"/>
          <p:cNvSpPr/>
          <p:nvPr/>
        </p:nvSpPr>
        <p:spPr>
          <a:xfrm>
            <a:off x="5657760" y="4857840"/>
            <a:ext cx="343080" cy="1200240"/>
          </a:xfrm>
          <a:custGeom>
            <a:avLst/>
            <a:gdLst>
              <a:gd name="textAreaLeft" fmla="*/ 0 w 343080"/>
              <a:gd name="textAreaRight" fmla="*/ 123840 w 34308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94080" y="0"/>
            <a:ext cx="7782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ОДИРОВАНИЕ  ЦИКЛИЧЕСКОГО 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  примере  (7,4)- к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22320" y="1165320"/>
            <a:ext cx="734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)Принятая  кодовая  комбинация  представляется  в  виде  полинома  А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66840" y="20415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1562040" y="2286000"/>
            <a:ext cx="51444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002680" y="2041560"/>
            <a:ext cx="232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)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4919760" y="2079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0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114960" y="2324160"/>
            <a:ext cx="51444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546240" y="2079720"/>
            <a:ext cx="200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)=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182520" y="2813040"/>
            <a:ext cx="87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)Полином  А</a:t>
            </a:r>
            <a:r>
              <a:rPr b="1" lang="ru-RU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х)  делится  на  порождающий  многочлен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g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885240" y="377496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648240" y="316548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692080" y="377496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2695680" y="384804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2695680" y="417204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2694240" y="41371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888840" y="4060800"/>
            <a:ext cx="1251000" cy="459720"/>
            <a:chOff x="888840" y="4060800"/>
            <a:chExt cx="1251000" cy="459720"/>
          </a:xfrm>
        </p:grpSpPr>
        <p:sp>
          <p:nvSpPr>
            <p:cNvPr id="342" name="Text Box 18"/>
            <p:cNvSpPr/>
            <p:nvPr/>
          </p:nvSpPr>
          <p:spPr>
            <a:xfrm>
              <a:off x="888840" y="406080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942840" y="4438440"/>
              <a:ext cx="10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20"/>
          <p:cNvSpPr/>
          <p:nvPr/>
        </p:nvSpPr>
        <p:spPr>
          <a:xfrm>
            <a:off x="541080" y="3940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1396800" y="44038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22"/>
          <p:cNvGrpSpPr/>
          <p:nvPr/>
        </p:nvGrpSpPr>
        <p:grpSpPr>
          <a:xfrm>
            <a:off x="1396800" y="4670280"/>
            <a:ext cx="1073880" cy="459720"/>
            <a:chOff x="1396800" y="4670280"/>
            <a:chExt cx="1073880" cy="459720"/>
          </a:xfrm>
        </p:grpSpPr>
        <p:sp>
          <p:nvSpPr>
            <p:cNvPr id="347" name="Text Box 23"/>
            <p:cNvSpPr/>
            <p:nvPr/>
          </p:nvSpPr>
          <p:spPr>
            <a:xfrm>
              <a:off x="1396800" y="467028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"/>
            <p:cNvSpPr/>
            <p:nvPr/>
          </p:nvSpPr>
          <p:spPr>
            <a:xfrm>
              <a:off x="1457640" y="50479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Text Box 25"/>
          <p:cNvSpPr/>
          <p:nvPr/>
        </p:nvSpPr>
        <p:spPr>
          <a:xfrm>
            <a:off x="1074600" y="45496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6"/>
          <p:cNvSpPr/>
          <p:nvPr/>
        </p:nvSpPr>
        <p:spPr>
          <a:xfrm>
            <a:off x="210996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2919240" y="4156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28"/>
          <p:cNvGrpSpPr/>
          <p:nvPr/>
        </p:nvGrpSpPr>
        <p:grpSpPr>
          <a:xfrm>
            <a:off x="2409480" y="5013360"/>
            <a:ext cx="1773720" cy="459720"/>
            <a:chOff x="2409480" y="5013360"/>
            <a:chExt cx="1773720" cy="459720"/>
          </a:xfrm>
        </p:grpSpPr>
        <p:sp>
          <p:nvSpPr>
            <p:cNvPr id="353" name="Text Box 29"/>
            <p:cNvSpPr/>
            <p:nvPr/>
          </p:nvSpPr>
          <p:spPr>
            <a:xfrm>
              <a:off x="2850480" y="501336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cc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0"/>
            <p:cNvSpPr/>
            <p:nvPr/>
          </p:nvSpPr>
          <p:spPr>
            <a:xfrm flipH="1">
              <a:off x="2409480" y="5239080"/>
              <a:ext cx="4762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31"/>
          <p:cNvSpPr/>
          <p:nvPr/>
        </p:nvSpPr>
        <p:spPr>
          <a:xfrm>
            <a:off x="5276520" y="381312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6845040" y="381312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33"/>
          <p:cNvSpPr/>
          <p:nvPr/>
        </p:nvSpPr>
        <p:spPr>
          <a:xfrm>
            <a:off x="6848640" y="388620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34"/>
          <p:cNvSpPr/>
          <p:nvPr/>
        </p:nvSpPr>
        <p:spPr>
          <a:xfrm>
            <a:off x="6848640" y="4210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6847200" y="4175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5289480" y="4098960"/>
            <a:ext cx="1251000" cy="459720"/>
            <a:chOff x="5289480" y="4098960"/>
            <a:chExt cx="1251000" cy="459720"/>
          </a:xfrm>
        </p:grpSpPr>
        <p:sp>
          <p:nvSpPr>
            <p:cNvPr id="361" name="Text Box 37"/>
            <p:cNvSpPr/>
            <p:nvPr/>
          </p:nvSpPr>
          <p:spPr>
            <a:xfrm>
              <a:off x="5289480" y="409896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8"/>
            <p:cNvSpPr/>
            <p:nvPr/>
          </p:nvSpPr>
          <p:spPr>
            <a:xfrm>
              <a:off x="5343480" y="4476600"/>
              <a:ext cx="10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39"/>
          <p:cNvSpPr/>
          <p:nvPr/>
        </p:nvSpPr>
        <p:spPr>
          <a:xfrm>
            <a:off x="4941720" y="397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5788080" y="4441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5797080" y="4708440"/>
            <a:ext cx="1073880" cy="459720"/>
            <a:chOff x="5797080" y="4708440"/>
            <a:chExt cx="1073880" cy="459720"/>
          </a:xfrm>
        </p:grpSpPr>
        <p:sp>
          <p:nvSpPr>
            <p:cNvPr id="366" name="Text Box 42"/>
            <p:cNvSpPr/>
            <p:nvPr/>
          </p:nvSpPr>
          <p:spPr>
            <a:xfrm>
              <a:off x="5797080" y="470844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43"/>
            <p:cNvSpPr/>
            <p:nvPr/>
          </p:nvSpPr>
          <p:spPr>
            <a:xfrm>
              <a:off x="5857920" y="5086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Text Box 44"/>
          <p:cNvSpPr/>
          <p:nvPr/>
        </p:nvSpPr>
        <p:spPr>
          <a:xfrm>
            <a:off x="5475240" y="4587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6510600" y="503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7071840" y="4194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47"/>
          <p:cNvGrpSpPr/>
          <p:nvPr/>
        </p:nvGrpSpPr>
        <p:grpSpPr>
          <a:xfrm>
            <a:off x="6810120" y="5051520"/>
            <a:ext cx="1773720" cy="459720"/>
            <a:chOff x="6810120" y="5051520"/>
            <a:chExt cx="1773720" cy="459720"/>
          </a:xfrm>
        </p:grpSpPr>
        <p:sp>
          <p:nvSpPr>
            <p:cNvPr id="372" name="Text Box 48"/>
            <p:cNvSpPr/>
            <p:nvPr/>
          </p:nvSpPr>
          <p:spPr>
            <a:xfrm>
              <a:off x="7251120" y="5051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9"/>
            <p:cNvSpPr/>
            <p:nvPr/>
          </p:nvSpPr>
          <p:spPr>
            <a:xfrm flipH="1">
              <a:off x="6810120" y="5277240"/>
              <a:ext cx="4762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Text Box 50"/>
          <p:cNvSpPr/>
          <p:nvPr/>
        </p:nvSpPr>
        <p:spPr>
          <a:xfrm>
            <a:off x="1389600" y="57564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шибки  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1"/>
          <p:cNvSpPr/>
          <p:nvPr/>
        </p:nvSpPr>
        <p:spPr>
          <a:xfrm>
            <a:off x="5511960" y="579420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ОШИБК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 Код Хемм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840" y="1197000"/>
            <a:ext cx="844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д Хеммин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группово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− код, матрица провер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г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меет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n-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трок ,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−1 столбцов, пр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цами  являются все ненулев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− разрядные двои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расстояние такого к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51000" y="3962520"/>
            <a:ext cx="80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числу информационных символ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ся из неравен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rcRect l="0" t="0" r="47035" b="50806"/>
          <a:stretch/>
        </p:blipFill>
        <p:spPr>
          <a:xfrm>
            <a:off x="2828880" y="5065560"/>
            <a:ext cx="29163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5040" y="1712880"/>
            <a:ext cx="903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 Хэмминга полностью задается количеством провероч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одовой комбин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ядок формирова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чных элементов опреде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ваемым  алгоритмом обнаружения и исправления искаж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а, т. е. требованием, предъявляемым к синдрому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верочные символы должны быть сформированы так, чтоб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о виду  синдрома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можно было обнаружить ошибку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исправить разряд, в котором она произош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365760" y="320760"/>
            <a:ext cx="84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собенности формирования  кода Хемм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1981800" y="82800"/>
            <a:ext cx="62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омера проверяемых разрядов кода Хемм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57520" y="600120"/>
          <a:ext cx="6383160" cy="3743280"/>
        </p:xfrm>
        <a:graphic>
          <a:graphicData uri="http://schemas.openxmlformats.org/drawingml/2006/table">
            <a:tbl>
              <a:tblPr/>
              <a:tblGrid>
                <a:gridCol w="1833480"/>
                <a:gridCol w="454968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ер провер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ера проверяемых раз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5,7,9,11,13,15,17,19,2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3,6,7,10,11,14,15,18,19,2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5,6,7,12,13,14,15,20,21,2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,10,11,12,13,14,15,24,25,2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17,18,19,20,21,22,23,24,25,26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33,34,35,36,37,38,39,40,41,4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Box 3"/>
          <p:cNvSpPr/>
          <p:nvPr/>
        </p:nvSpPr>
        <p:spPr>
          <a:xfrm>
            <a:off x="133920" y="4449600"/>
            <a:ext cx="89996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таблицы можно определ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а проверочных разрядов и их место в кодовой комбин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енно, это позиции 1,2.4,8,16,32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ие разряды участвуют в первой, второй и т.д. провер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 в формировании первого проверочного разря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160" y="-213120"/>
            <a:ext cx="896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Декодирование кода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0" y="946080"/>
            <a:ext cx="919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ование к декодированию по Хеммингу являе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дром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двоично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ядное число, записанное по результатам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й проверок, − должен указывать номер искаженн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яда кодовой комби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возможны три случа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шибок н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се  проверки равны нул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иночная ошиб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проверка равна единице, а перв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к указывают номер искаженного разря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войная ошиб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- последняя проверка равно нулю, а хотя бы одна и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к равна еди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. Основы помехоустойчивого код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2. Блочные коды: БЛК, циклические, код Хемм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920" y="2382840"/>
            <a:ext cx="910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чные линейные коды. Построение и 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Циклические коды. Построение и 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д Хеммин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097360" y="22255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войства групповых к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7680" y="3267000"/>
            <a:ext cx="806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 минимальному весу ненулевой кодовой комби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й код обознач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онных симв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й код может задаваться в виде таблицы или матричным способ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2120" y="434880"/>
            <a:ext cx="79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рупповой к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корректирующий код, множество комбинаций которого содержит нулевую кодовую комбинацию, а сумма любых кодовых комбинаций так же является разрешенной кодовой комбин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БЛОЧНЫЙ ЛИНЕЙНЫЙ К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(5,3)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очные  соотношени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3520" y="2438280"/>
            <a:ext cx="8076960" cy="406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6477120" y="2438280"/>
            <a:ext cx="0" cy="40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2"/>
          <p:cNvGrpSpPr/>
          <p:nvPr/>
        </p:nvGrpSpPr>
        <p:grpSpPr>
          <a:xfrm>
            <a:off x="533520" y="2438280"/>
            <a:ext cx="8124120" cy="872280"/>
            <a:chOff x="533520" y="2438280"/>
            <a:chExt cx="8124120" cy="872280"/>
          </a:xfrm>
        </p:grpSpPr>
        <p:sp>
          <p:nvSpPr>
            <p:cNvPr id="57" name="Line 5"/>
            <p:cNvSpPr/>
            <p:nvPr/>
          </p:nvSpPr>
          <p:spPr>
            <a:xfrm>
              <a:off x="533520" y="3276720"/>
              <a:ext cx="80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561240" y="2438280"/>
              <a:ext cx="63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/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1274400" y="2562120"/>
              <a:ext cx="178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ходны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митивный к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4131360" y="2438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БЛК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(5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6555240" y="2438280"/>
              <a:ext cx="210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с кодов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бин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3920040" y="2800440"/>
              <a:ext cx="186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Line 19"/>
          <p:cNvSpPr/>
          <p:nvPr/>
        </p:nvSpPr>
        <p:spPr>
          <a:xfrm>
            <a:off x="541440" y="36813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541440" y="409428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1440" y="450684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541440" y="49179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541440" y="533088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541440" y="574200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541440" y="612792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8"/>
          <p:cNvGrpSpPr/>
          <p:nvPr/>
        </p:nvGrpSpPr>
        <p:grpSpPr>
          <a:xfrm>
            <a:off x="681120" y="2438280"/>
            <a:ext cx="2519280" cy="4119120"/>
            <a:chOff x="681120" y="2438280"/>
            <a:chExt cx="2519280" cy="4119120"/>
          </a:xfrm>
        </p:grpSpPr>
        <p:sp>
          <p:nvSpPr>
            <p:cNvPr id="71" name="Line 10"/>
            <p:cNvSpPr/>
            <p:nvPr/>
          </p:nvSpPr>
          <p:spPr>
            <a:xfrm>
              <a:off x="1143000" y="2438280"/>
              <a:ext cx="0" cy="40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200400" y="2438280"/>
              <a:ext cx="0" cy="40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681120" y="32893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     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6"/>
            <p:cNvSpPr/>
            <p:nvPr/>
          </p:nvSpPr>
          <p:spPr>
            <a:xfrm>
              <a:off x="689040" y="365904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             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682560" y="40705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             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690480" y="44830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             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700200" y="489420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 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30"/>
            <p:cNvSpPr/>
            <p:nvPr/>
          </p:nvSpPr>
          <p:spPr>
            <a:xfrm>
              <a:off x="693720" y="53071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            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1"/>
            <p:cNvSpPr/>
            <p:nvPr/>
          </p:nvSpPr>
          <p:spPr>
            <a:xfrm>
              <a:off x="700200" y="57196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          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2"/>
            <p:cNvSpPr/>
            <p:nvPr/>
          </p:nvSpPr>
          <p:spPr>
            <a:xfrm>
              <a:off x="700200" y="60976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7            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33"/>
          <p:cNvSpPr/>
          <p:nvPr/>
        </p:nvSpPr>
        <p:spPr>
          <a:xfrm>
            <a:off x="3906720" y="3238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0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4"/>
          <p:cNvSpPr/>
          <p:nvPr/>
        </p:nvSpPr>
        <p:spPr>
          <a:xfrm>
            <a:off x="3914640" y="367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0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393696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1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3930840" y="4476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1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004000" y="301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535932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5011920" y="3457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5381640" y="3452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5375160" y="384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8"/>
          <p:cNvSpPr/>
          <p:nvPr/>
        </p:nvSpPr>
        <p:spPr>
          <a:xfrm>
            <a:off x="4998960" y="384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9"/>
          <p:cNvSpPr/>
          <p:nvPr/>
        </p:nvSpPr>
        <p:spPr>
          <a:xfrm>
            <a:off x="5383080" y="4276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5021280" y="427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502776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1"/>
          <p:cNvSpPr/>
          <p:nvPr/>
        </p:nvSpPr>
        <p:spPr>
          <a:xfrm>
            <a:off x="5397840" y="32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5398920" y="4476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5031000" y="32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8"/>
          <p:cNvGrpSpPr/>
          <p:nvPr/>
        </p:nvGrpSpPr>
        <p:grpSpPr>
          <a:xfrm>
            <a:off x="3933720" y="4861080"/>
            <a:ext cx="1805040" cy="1678680"/>
            <a:chOff x="3933720" y="4861080"/>
            <a:chExt cx="1805040" cy="1678680"/>
          </a:xfrm>
        </p:grpSpPr>
        <p:sp>
          <p:nvSpPr>
            <p:cNvPr id="98" name="Text Box 66"/>
            <p:cNvSpPr/>
            <p:nvPr/>
          </p:nvSpPr>
          <p:spPr>
            <a:xfrm>
              <a:off x="5035680" y="608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85"/>
            <p:cNvGrpSpPr/>
            <p:nvPr/>
          </p:nvGrpSpPr>
          <p:grpSpPr>
            <a:xfrm>
              <a:off x="3933720" y="4861080"/>
              <a:ext cx="1805040" cy="1661400"/>
              <a:chOff x="3933720" y="4861080"/>
              <a:chExt cx="1805040" cy="1661400"/>
            </a:xfrm>
          </p:grpSpPr>
          <p:sp>
            <p:nvSpPr>
              <p:cNvPr id="100" name="Text Box 37"/>
              <p:cNvSpPr/>
              <p:nvPr/>
            </p:nvSpPr>
            <p:spPr>
              <a:xfrm>
                <a:off x="3938760" y="48625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0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38"/>
              <p:cNvSpPr/>
              <p:nvPr/>
            </p:nvSpPr>
            <p:spPr>
              <a:xfrm>
                <a:off x="3933720" y="52750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0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39"/>
              <p:cNvSpPr/>
              <p:nvPr/>
            </p:nvSpPr>
            <p:spPr>
              <a:xfrm>
                <a:off x="3941640" y="56736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1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40"/>
              <p:cNvSpPr/>
              <p:nvPr/>
            </p:nvSpPr>
            <p:spPr>
              <a:xfrm>
                <a:off x="3935520" y="60562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1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56"/>
              <p:cNvSpPr/>
              <p:nvPr/>
            </p:nvSpPr>
            <p:spPr>
              <a:xfrm>
                <a:off x="5002200" y="58086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62"/>
              <p:cNvSpPr/>
              <p:nvPr/>
            </p:nvSpPr>
            <p:spPr>
              <a:xfrm>
                <a:off x="5375520" y="5670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65"/>
              <p:cNvSpPr/>
              <p:nvPr/>
            </p:nvSpPr>
            <p:spPr>
              <a:xfrm>
                <a:off x="5027760" y="5280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67"/>
              <p:cNvSpPr/>
              <p:nvPr/>
            </p:nvSpPr>
            <p:spPr>
              <a:xfrm>
                <a:off x="5397840" y="5275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68"/>
              <p:cNvSpPr/>
              <p:nvPr/>
            </p:nvSpPr>
            <p:spPr>
              <a:xfrm>
                <a:off x="5389560" y="6062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69"/>
              <p:cNvSpPr/>
              <p:nvPr/>
            </p:nvSpPr>
            <p:spPr>
              <a:xfrm>
                <a:off x="5037480" y="5665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70"/>
              <p:cNvSpPr/>
              <p:nvPr/>
            </p:nvSpPr>
            <p:spPr>
              <a:xfrm>
                <a:off x="5405760" y="4867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1"/>
              <p:cNvSpPr/>
              <p:nvPr/>
            </p:nvSpPr>
            <p:spPr>
              <a:xfrm>
                <a:off x="5053320" y="4861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Text Box 72"/>
          <p:cNvSpPr/>
          <p:nvPr/>
        </p:nvSpPr>
        <p:spPr>
          <a:xfrm>
            <a:off x="5046840" y="448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3"/>
          <p:cNvSpPr/>
          <p:nvPr/>
        </p:nvSpPr>
        <p:spPr>
          <a:xfrm>
            <a:off x="5400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4"/>
          <p:cNvSpPr/>
          <p:nvPr/>
        </p:nvSpPr>
        <p:spPr>
          <a:xfrm>
            <a:off x="5396040" y="366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5"/>
          <p:cNvSpPr/>
          <p:nvPr/>
        </p:nvSpPr>
        <p:spPr>
          <a:xfrm>
            <a:off x="5027760" y="3675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86"/>
          <p:cNvGrpSpPr/>
          <p:nvPr/>
        </p:nvGrpSpPr>
        <p:grpSpPr>
          <a:xfrm>
            <a:off x="7253280" y="3255840"/>
            <a:ext cx="341280" cy="3288600"/>
            <a:chOff x="7253280" y="3255840"/>
            <a:chExt cx="341280" cy="3288600"/>
          </a:xfrm>
        </p:grpSpPr>
        <p:sp>
          <p:nvSpPr>
            <p:cNvPr id="117" name="Text Box 76"/>
            <p:cNvSpPr/>
            <p:nvPr/>
          </p:nvSpPr>
          <p:spPr>
            <a:xfrm>
              <a:off x="7253280" y="32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8"/>
            <p:cNvSpPr/>
            <p:nvPr/>
          </p:nvSpPr>
          <p:spPr>
            <a:xfrm>
              <a:off x="7261560" y="366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79"/>
            <p:cNvSpPr/>
            <p:nvPr/>
          </p:nvSpPr>
          <p:spPr>
            <a:xfrm>
              <a:off x="7261560" y="40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80"/>
            <p:cNvSpPr/>
            <p:nvPr/>
          </p:nvSpPr>
          <p:spPr>
            <a:xfrm>
              <a:off x="7261560" y="449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81"/>
            <p:cNvSpPr/>
            <p:nvPr/>
          </p:nvSpPr>
          <p:spPr>
            <a:xfrm>
              <a:off x="7255080" y="571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2"/>
            <p:cNvSpPr/>
            <p:nvPr/>
          </p:nvSpPr>
          <p:spPr>
            <a:xfrm>
              <a:off x="7255080" y="49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3"/>
            <p:cNvSpPr/>
            <p:nvPr/>
          </p:nvSpPr>
          <p:spPr>
            <a:xfrm>
              <a:off x="7255080" y="530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84"/>
            <p:cNvSpPr/>
            <p:nvPr/>
          </p:nvSpPr>
          <p:spPr>
            <a:xfrm>
              <a:off x="7255080" y="608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2967120" y="898560"/>
          <a:ext cx="284148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898560"/>
                    <a:ext cx="2841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3"/>
          <p:cNvSpPr/>
          <p:nvPr/>
        </p:nvSpPr>
        <p:spPr>
          <a:xfrm>
            <a:off x="1653840" y="257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ноническая форма порождающей матр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5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5715000" y="1758960"/>
          <a:ext cx="6602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758960"/>
                    <a:ext cx="660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7"/>
          <p:cNvGraphicFramePr/>
          <p:nvPr/>
        </p:nvGraphicFramePr>
        <p:xfrm>
          <a:off x="851040" y="2432160"/>
          <a:ext cx="866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2432160"/>
                    <a:ext cx="86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8"/>
          <p:cNvSpPr/>
          <p:nvPr/>
        </p:nvSpPr>
        <p:spPr>
          <a:xfrm>
            <a:off x="1776960" y="242892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трица, состоящая из проверочны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1136520" y="4162320"/>
            <a:ext cx="7275600" cy="1973520"/>
            <a:chOff x="1136520" y="4162320"/>
            <a:chExt cx="7275600" cy="1973520"/>
          </a:xfrm>
        </p:grpSpPr>
        <p:graphicFrame>
          <p:nvGraphicFramePr>
            <p:cNvPr id="137" name="Object 9"/>
            <p:cNvGraphicFramePr/>
            <p:nvPr/>
          </p:nvGraphicFramePr>
          <p:xfrm>
            <a:off x="1576440" y="4162320"/>
            <a:ext cx="4329000" cy="58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76440" y="4162320"/>
                      <a:ext cx="43290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0"/>
            <p:cNvGraphicFramePr/>
            <p:nvPr/>
          </p:nvGraphicFramePr>
          <p:xfrm>
            <a:off x="1244520" y="4788000"/>
            <a:ext cx="368280" cy="552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44520" y="4788000"/>
                      <a:ext cx="36828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Text Box 11"/>
            <p:cNvSpPr/>
            <p:nvPr/>
          </p:nvSpPr>
          <p:spPr>
            <a:xfrm>
              <a:off x="1660680" y="4829040"/>
              <a:ext cx="455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кодовая комбинация БЛК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, 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Object 12"/>
            <p:cNvGraphicFramePr/>
            <p:nvPr/>
          </p:nvGraphicFramePr>
          <p:xfrm>
            <a:off x="1136520" y="5575320"/>
            <a:ext cx="343080" cy="560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36520" y="5575320"/>
                      <a:ext cx="34308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13"/>
            <p:cNvSpPr/>
            <p:nvPr/>
          </p:nvSpPr>
          <p:spPr>
            <a:xfrm>
              <a:off x="1736640" y="5641920"/>
              <a:ext cx="66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кодовая комбинация первичного кода дли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1736640" y="291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189080" y="32288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лгоритм формирования кодовых комбинаций Б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9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20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1"/>
          <p:cNvGraphicFramePr/>
          <p:nvPr/>
        </p:nvGraphicFramePr>
        <p:xfrm>
          <a:off x="5715000" y="1758960"/>
          <a:ext cx="6602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15000" y="1758960"/>
                    <a:ext cx="660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2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3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24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25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952560" y="1692360"/>
            <a:ext cx="5422680" cy="511200"/>
            <a:chOff x="952560" y="1692360"/>
            <a:chExt cx="5422680" cy="511200"/>
          </a:xfrm>
        </p:grpSpPr>
        <p:graphicFrame>
          <p:nvGraphicFramePr>
            <p:cNvPr id="159" name="Object 26"/>
            <p:cNvGraphicFramePr/>
            <p:nvPr/>
          </p:nvGraphicFramePr>
          <p:xfrm>
            <a:off x="5715000" y="1758960"/>
            <a:ext cx="660240" cy="355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60" name="Object 2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715000" y="1758960"/>
                      <a:ext cx="6602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27"/>
            <p:cNvGraphicFramePr/>
            <p:nvPr/>
          </p:nvGraphicFramePr>
          <p:xfrm>
            <a:off x="952560" y="1720800"/>
            <a:ext cx="406440" cy="482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62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52560" y="1720800"/>
                      <a:ext cx="406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Text Box 28"/>
            <p:cNvSpPr/>
            <p:nvPr/>
          </p:nvSpPr>
          <p:spPr>
            <a:xfrm>
              <a:off x="1509120" y="169236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единичная матрица разме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4"/>
          <p:cNvSpPr/>
          <p:nvPr/>
        </p:nvSpPr>
        <p:spPr>
          <a:xfrm>
            <a:off x="4292640" y="5423040"/>
            <a:ext cx="965160" cy="901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057480" y="2892600"/>
          <a:ext cx="211284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7480" y="2892600"/>
                    <a:ext cx="21128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4"/>
          <p:cNvSpPr/>
          <p:nvPr/>
        </p:nvSpPr>
        <p:spPr>
          <a:xfrm>
            <a:off x="698400" y="122220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оверочные  соотнош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4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формирования кодовых комбинаций БЛК (5,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атричным способ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81040" y="237816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Каноническая форма порождающей матрицы БЛК (5,3)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7"/>
          <p:cNvGraphicFramePr/>
          <p:nvPr/>
        </p:nvGraphicFramePr>
        <p:xfrm>
          <a:off x="2068560" y="5127480"/>
          <a:ext cx="310500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8560" y="5127480"/>
                    <a:ext cx="31050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0"/>
          <p:cNvGraphicFramePr/>
          <p:nvPr/>
        </p:nvGraphicFramePr>
        <p:xfrm>
          <a:off x="8131320" y="4362480"/>
          <a:ext cx="10000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31320" y="4362480"/>
                    <a:ext cx="1000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1"/>
          <p:cNvSpPr/>
          <p:nvPr/>
        </p:nvSpPr>
        <p:spPr>
          <a:xfrm>
            <a:off x="2880" y="4308480"/>
            <a:ext cx="81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задана исходная кодовая комбинация первичного к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 rot="8799000">
            <a:off x="5143320" y="5270400"/>
            <a:ext cx="888840" cy="292320"/>
          </a:xfrm>
          <a:custGeom>
            <a:avLst/>
            <a:gdLst>
              <a:gd name="textAreaLeft" fmla="*/ 138600 w 888840"/>
              <a:gd name="textAreaRight" fmla="*/ 777960 w 888840"/>
              <a:gd name="textAreaTop" fmla="*/ 73080 h 292320"/>
              <a:gd name="textAreaBottom" fmla="*/ 219240 h 292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047640" y="49021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довая комбин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ЛК (5,3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ВЕРОЧНАЯ МАТРИЦА БЛК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2925720" y="1123920"/>
          <a:ext cx="393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5720" y="1123920"/>
                    <a:ext cx="393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812880" y="1847880"/>
          <a:ext cx="100332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1847880"/>
                    <a:ext cx="10033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9"/>
          <p:cNvSpPr/>
          <p:nvPr/>
        </p:nvSpPr>
        <p:spPr>
          <a:xfrm>
            <a:off x="2099880" y="1895400"/>
            <a:ext cx="65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, в которой  единицы стоят на пози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 проверочных разрядов, которые участву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ормировании данных проверочного симв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27"/>
          <p:cNvGrpSpPr/>
          <p:nvPr/>
        </p:nvGrpSpPr>
        <p:grpSpPr>
          <a:xfrm>
            <a:off x="1168560" y="3216240"/>
            <a:ext cx="5829120" cy="511200"/>
            <a:chOff x="1168560" y="3216240"/>
            <a:chExt cx="5829120" cy="511200"/>
          </a:xfrm>
        </p:grpSpPr>
        <p:graphicFrame>
          <p:nvGraphicFramePr>
            <p:cNvPr id="186" name="Object 28"/>
            <p:cNvGraphicFramePr/>
            <p:nvPr/>
          </p:nvGraphicFramePr>
          <p:xfrm>
            <a:off x="6337440" y="3282840"/>
            <a:ext cx="66024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282840"/>
                      <a:ext cx="6602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29"/>
            <p:cNvGraphicFramePr/>
            <p:nvPr/>
          </p:nvGraphicFramePr>
          <p:xfrm>
            <a:off x="1168560" y="3244680"/>
            <a:ext cx="121932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68560" y="3244680"/>
                      <a:ext cx="12193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Text Box 30"/>
            <p:cNvSpPr/>
            <p:nvPr/>
          </p:nvSpPr>
          <p:spPr>
            <a:xfrm>
              <a:off x="2131560" y="321624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единичная матрица разме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"/>
          <p:cNvSpPr/>
          <p:nvPr/>
        </p:nvSpPr>
        <p:spPr>
          <a:xfrm>
            <a:off x="407520" y="75420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Транспонирование проверочной матри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13360" y="1908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5,3)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60580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023880" y="1290600"/>
            <a:ext cx="3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328800" y="1290600"/>
            <a:ext cx="3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3105000" y="1790640"/>
            <a:ext cx="952560" cy="304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105000" y="2095560"/>
            <a:ext cx="952560" cy="304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1301760" y="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лгоритм проверки кодовых комбин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группового к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72320" y="3287880"/>
            <a:ext cx="74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Умножение транспонированной проверочной матр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нятую кодовую комбинац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826800" y="458640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4228920" y="4586400"/>
            <a:ext cx="10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472248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067360" y="458640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550332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6591240" y="13716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5829480" y="4586400"/>
            <a:ext cx="9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6258960" y="4421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6514920" y="45864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700848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3813840" y="514512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422928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4658760" y="497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99104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5427000" y="497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75316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6233760" y="499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0"/>
          <p:cNvSpPr/>
          <p:nvPr/>
        </p:nvSpPr>
        <p:spPr>
          <a:xfrm>
            <a:off x="6501960" y="514512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6932160" y="499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9"/>
          <p:cNvGrpSpPr/>
          <p:nvPr/>
        </p:nvGrpSpPr>
        <p:grpSpPr>
          <a:xfrm>
            <a:off x="7466040" y="4890960"/>
            <a:ext cx="460440" cy="411480"/>
            <a:chOff x="7466040" y="4890960"/>
            <a:chExt cx="460440" cy="411480"/>
          </a:xfrm>
        </p:grpSpPr>
        <p:sp>
          <p:nvSpPr>
            <p:cNvPr id="220" name="Text Box 70"/>
            <p:cNvSpPr/>
            <p:nvPr/>
          </p:nvSpPr>
          <p:spPr>
            <a:xfrm>
              <a:off x="7466040" y="4890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7617600" y="4903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72"/>
          <p:cNvSpPr/>
          <p:nvPr/>
        </p:nvSpPr>
        <p:spPr>
          <a:xfrm>
            <a:off x="77576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74"/>
          <p:cNvGrpSpPr/>
          <p:nvPr/>
        </p:nvGrpSpPr>
        <p:grpSpPr>
          <a:xfrm>
            <a:off x="3854520" y="4305240"/>
            <a:ext cx="660240" cy="503640"/>
            <a:chOff x="3854520" y="4305240"/>
            <a:chExt cx="660240" cy="503640"/>
          </a:xfrm>
        </p:grpSpPr>
        <p:sp>
          <p:nvSpPr>
            <p:cNvPr id="224" name="Rectangle 75"/>
            <p:cNvSpPr/>
            <p:nvPr/>
          </p:nvSpPr>
          <p:spPr>
            <a:xfrm>
              <a:off x="3854520" y="4305240"/>
              <a:ext cx="660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76"/>
            <p:cNvSpPr/>
            <p:nvPr/>
          </p:nvSpPr>
          <p:spPr>
            <a:xfrm>
              <a:off x="4003560" y="441000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77"/>
          <p:cNvGrpSpPr/>
          <p:nvPr/>
        </p:nvGrpSpPr>
        <p:grpSpPr>
          <a:xfrm>
            <a:off x="3990960" y="4968720"/>
            <a:ext cx="298440" cy="398880"/>
            <a:chOff x="3990960" y="4968720"/>
            <a:chExt cx="298440" cy="398880"/>
          </a:xfrm>
        </p:grpSpPr>
        <p:sp>
          <p:nvSpPr>
            <p:cNvPr id="227" name="Rectangle 78"/>
            <p:cNvSpPr/>
            <p:nvPr/>
          </p:nvSpPr>
          <p:spPr>
            <a:xfrm>
              <a:off x="4032360" y="5054760"/>
              <a:ext cx="2030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79"/>
            <p:cNvSpPr/>
            <p:nvPr/>
          </p:nvSpPr>
          <p:spPr>
            <a:xfrm>
              <a:off x="3990960" y="496872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84"/>
          <p:cNvGrpSpPr/>
          <p:nvPr/>
        </p:nvGrpSpPr>
        <p:grpSpPr>
          <a:xfrm>
            <a:off x="2141640" y="1752480"/>
            <a:ext cx="2081160" cy="703800"/>
            <a:chOff x="2141640" y="1752480"/>
            <a:chExt cx="2081160" cy="703800"/>
          </a:xfrm>
        </p:grpSpPr>
        <p:sp>
          <p:nvSpPr>
            <p:cNvPr id="230" name="Text Box 27"/>
            <p:cNvSpPr/>
            <p:nvPr/>
          </p:nvSpPr>
          <p:spPr>
            <a:xfrm>
              <a:off x="2141640" y="18810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H(5,3)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8"/>
            <p:cNvSpPr/>
            <p:nvPr/>
          </p:nvSpPr>
          <p:spPr>
            <a:xfrm>
              <a:off x="2952720" y="1752480"/>
              <a:ext cx="127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 1 0 1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0 1 1 0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9"/>
            <p:cNvSpPr/>
            <p:nvPr/>
          </p:nvSpPr>
          <p:spPr>
            <a:xfrm>
              <a:off x="3105000" y="1771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83"/>
            <p:cNvSpPr/>
            <p:nvPr/>
          </p:nvSpPr>
          <p:spPr>
            <a:xfrm>
              <a:off x="4057560" y="1771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AutoShape 86"/>
          <p:cNvSpPr/>
          <p:nvPr/>
        </p:nvSpPr>
        <p:spPr>
          <a:xfrm>
            <a:off x="4286160" y="1866960"/>
            <a:ext cx="666720" cy="495360"/>
          </a:xfrm>
          <a:prstGeom prst="rightArrow">
            <a:avLst>
              <a:gd name="adj1" fmla="val 50000"/>
              <a:gd name="adj2" fmla="val 33648"/>
            </a:avLst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3"/>
          <p:cNvGrpSpPr/>
          <p:nvPr/>
        </p:nvGrpSpPr>
        <p:grpSpPr>
          <a:xfrm>
            <a:off x="476280" y="4186080"/>
            <a:ext cx="3481920" cy="1618560"/>
            <a:chOff x="476280" y="4186080"/>
            <a:chExt cx="3481920" cy="1618560"/>
          </a:xfrm>
        </p:grpSpPr>
        <p:sp>
          <p:nvSpPr>
            <p:cNvPr id="236" name="Text Box 3"/>
            <p:cNvSpPr/>
            <p:nvPr/>
          </p:nvSpPr>
          <p:spPr>
            <a:xfrm>
              <a:off x="476280" y="47815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5,3)</a:t>
              </a: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0010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8"/>
            <p:cNvSpPr/>
            <p:nvPr/>
          </p:nvSpPr>
          <p:spPr>
            <a:xfrm>
              <a:off x="2790000" y="47894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0011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91"/>
            <p:cNvGrpSpPr/>
            <p:nvPr/>
          </p:nvGrpSpPr>
          <p:grpSpPr>
            <a:xfrm>
              <a:off x="2290320" y="4186080"/>
              <a:ext cx="613440" cy="1618560"/>
              <a:chOff x="2290320" y="4186080"/>
              <a:chExt cx="613440" cy="1618560"/>
            </a:xfrm>
          </p:grpSpPr>
          <p:sp>
            <p:nvSpPr>
              <p:cNvPr id="239" name="Line 87"/>
              <p:cNvSpPr/>
              <p:nvPr/>
            </p:nvSpPr>
            <p:spPr>
              <a:xfrm>
                <a:off x="2324160" y="42670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88"/>
              <p:cNvSpPr/>
              <p:nvPr/>
            </p:nvSpPr>
            <p:spPr>
              <a:xfrm>
                <a:off x="2290320" y="4186080"/>
                <a:ext cx="3088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89"/>
              <p:cNvSpPr/>
              <p:nvPr/>
            </p:nvSpPr>
            <p:spPr>
              <a:xfrm>
                <a:off x="2594880" y="4186080"/>
                <a:ext cx="3088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90"/>
              <p:cNvSpPr/>
              <p:nvPr/>
            </p:nvSpPr>
            <p:spPr>
              <a:xfrm>
                <a:off x="2857680" y="4267080"/>
                <a:ext cx="0" cy="14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Freeform 94"/>
          <p:cNvSpPr/>
          <p:nvPr/>
        </p:nvSpPr>
        <p:spPr>
          <a:xfrm>
            <a:off x="2476440" y="4356000"/>
            <a:ext cx="609840" cy="520920"/>
          </a:xfrm>
          <a:custGeom>
            <a:avLst/>
            <a:gdLst>
              <a:gd name="textAreaLeft" fmla="*/ 0 w 609840"/>
              <a:gd name="textAreaRight" fmla="*/ 610200 w 6098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384" h="328">
                <a:moveTo>
                  <a:pt x="0" y="16"/>
                </a:moveTo>
                <a:cubicBezTo>
                  <a:pt x="112" y="8"/>
                  <a:pt x="224" y="0"/>
                  <a:pt x="288" y="52"/>
                </a:cubicBezTo>
                <a:cubicBezTo>
                  <a:pt x="352" y="104"/>
                  <a:pt x="368" y="216"/>
                  <a:pt x="384" y="3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95"/>
          <p:cNvSpPr/>
          <p:nvPr/>
        </p:nvSpPr>
        <p:spPr>
          <a:xfrm>
            <a:off x="2514600" y="4654440"/>
            <a:ext cx="704880" cy="222480"/>
          </a:xfrm>
          <a:custGeom>
            <a:avLst/>
            <a:gdLst>
              <a:gd name="textAreaLeft" fmla="*/ 0 w 704880"/>
              <a:gd name="textAreaRight" fmla="*/ 705240 w 7048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444" h="140">
                <a:moveTo>
                  <a:pt x="0" y="20"/>
                </a:moveTo>
                <a:cubicBezTo>
                  <a:pt x="95" y="10"/>
                  <a:pt x="190" y="0"/>
                  <a:pt x="264" y="20"/>
                </a:cubicBezTo>
                <a:cubicBezTo>
                  <a:pt x="338" y="40"/>
                  <a:pt x="391" y="90"/>
                  <a:pt x="444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6"/>
          <p:cNvSpPr/>
          <p:nvPr/>
        </p:nvSpPr>
        <p:spPr>
          <a:xfrm>
            <a:off x="803160" y="581184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вая комбинация относится к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зреше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49520" y="49536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 Циклические коды. Построение и де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509760" y="2919240"/>
          <a:ext cx="71053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919240"/>
                    <a:ext cx="7105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 Box 5"/>
          <p:cNvSpPr/>
          <p:nvPr/>
        </p:nvSpPr>
        <p:spPr>
          <a:xfrm>
            <a:off x="459360" y="23526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кодовой комбинации ЦК в виде полино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73200" y="3914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очный полин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79800" y="4410000"/>
          <a:ext cx="218916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4410000"/>
                    <a:ext cx="21891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AutoShape 9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0"/>
          <p:cNvGraphicFramePr/>
          <p:nvPr/>
        </p:nvGraphicFramePr>
        <p:xfrm>
          <a:off x="509760" y="2919240"/>
          <a:ext cx="710532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760" y="2919240"/>
                    <a:ext cx="7105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AutoShape 12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5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673200" y="3914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очный полин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3600" y="1184400"/>
            <a:ext cx="92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Циклический к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корректирующий код, при формир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овых комбинаций которого используется операция цикли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ви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38:43Z</dcterms:created>
  <dc:creator>Каф9</dc:creator>
  <dc:description/>
  <dc:language>en-US</dc:language>
  <cp:lastModifiedBy>Вера</cp:lastModifiedBy>
  <dcterms:modified xsi:type="dcterms:W3CDTF">2021-09-14T12:32:53Z</dcterms:modified>
  <cp:revision>40</cp:revision>
  <dc:subject/>
  <dc:title>ГРУППОВОЙ  (5,3)-КОД  Проверочные  соотношения: а4 = а1 + а3 а5 = а1 + а2 + а3</dc:title>
</cp:coreProperties>
</file>